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27D-F737-466E-A318-2FE5DDBD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07F-33BD-46FF-B911-22CBC1EA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FC6-14C2-495C-97B4-B1297218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B2E-42E0-4365-AE50-68B3CE1A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A22-BE5F-4B52-BAEB-8A85ED68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B54-AE4B-47C4-9109-25646A63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2BB-EDC6-41C9-82C3-8CD5E369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D38-C6F6-40F6-B949-74C85367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9A5-F56A-4FF0-969C-0991224D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8FE-7A6E-440C-8450-8F0999B8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14E-81A8-4A84-AFCA-80121099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1EB-5228-4ECE-9054-3CBE5FFE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AB36-1914-4C20-A25A-5163DA5ECA7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altblatt5.6a.pdf/" TargetMode="External"/><Relationship Id="rId2" Type="http://schemas.openxmlformats.org/officeDocument/2006/relationships/hyperlink" Target="http://Handzettel2.3.pdf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r oder weniger Pfoten Logovorstel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Work Sans ExtraBold"/>
              </a:rPr>
              <a:t>BILDMARKE</a:t>
            </a:r>
            <a:r>
              <a:rPr b="0" lang="en-US" sz="5400" spc="-1" strike="noStrike">
                <a:solidFill>
                  <a:srgbClr val="bc85a3"/>
                </a:solidFill>
                <a:latin typeface="Work Sans ExtraBold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538440" cy="2683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4572000" y="1989000"/>
            <a:ext cx="0" cy="3384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076720" y="2349360"/>
            <a:ext cx="3672000" cy="2784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388360" y="6093000"/>
            <a:ext cx="49680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Work Sans ExtraBold"/>
              </a:rPr>
              <a:t>PROFILBILD</a:t>
            </a:r>
            <a:r>
              <a:rPr b="0" lang="en-US" sz="5400" spc="-1" strike="noStrike">
                <a:solidFill>
                  <a:srgbClr val="f6ba87"/>
                </a:solidFill>
                <a:latin typeface="Work Sans ExtraBold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ork Sans SemiBold"/>
              </a:rPr>
              <a:t>Profilbild in sozialen Netzwer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745080" cy="37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496800" cy="496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Work Sans ExtraBold"/>
              </a:rPr>
              <a:t>AUSLAGEMATERIAL</a:t>
            </a:r>
            <a:r>
              <a:rPr b="0" lang="en-US" sz="5400" spc="-1" strike="noStrike">
                <a:solidFill>
                  <a:srgbClr val="f08ba6"/>
                </a:solidFill>
                <a:latin typeface="Work Sans ExtraBold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ork Sans SemiBold"/>
              </a:rPr>
              <a:t>Verknüpfun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ork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Work Sans"/>
                <a:hlinkClick r:id="rId1"/>
              </a:rPr>
              <a:t>Faltbl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ork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Work Sans"/>
                <a:hlinkClick r:id="rId2"/>
              </a:rPr>
              <a:t>Handze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388360" y="6093000"/>
            <a:ext cx="49680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60720" y="4653000"/>
            <a:ext cx="518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589720"/>
            <a:ext cx="9144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Work Sans ExtraBold"/>
              </a:rPr>
              <a:t>VIELEN DANK FÜR EURE AUFMERKSAMKEIT</a:t>
            </a:r>
            <a:r>
              <a:rPr b="0" lang="en-US" sz="3100" spc="-1" strike="noStrike">
                <a:solidFill>
                  <a:srgbClr val="a79aff"/>
                </a:solidFill>
                <a:latin typeface="Work Sans ExtraBold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6381720"/>
            <a:ext cx="8713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808080"/>
                </a:solidFill>
                <a:latin typeface="Arial"/>
              </a:rPr>
              <a:t>Markenauftrittsinformationspräsentation für Website, Version 1.0 vom 22.04.2024. © Vier oder weniger Pfoten 2024. Alle Rechte vorbehalten.  Weitere Informationen: http://www.vier-oder-weniger-pfoten.de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89647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3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Work Sans ExtraBold"/>
              </a:rPr>
              <a:t>LOGOVARIANTEN</a:t>
            </a:r>
            <a:r>
              <a:rPr b="0" lang="en-US" sz="5400" spc="-1" strike="noStrike">
                <a:solidFill>
                  <a:srgbClr val="f6ba87"/>
                </a:solidFill>
                <a:latin typeface="Work Sans ExtraBold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ork Sans SemiBold"/>
              </a:rPr>
              <a:t>Kombinationslogo in Farbvari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2519280" cy="176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03640" y="2852640"/>
            <a:ext cx="2592360" cy="181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3059280" y="2707920"/>
            <a:ext cx="0" cy="2089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56360" y="2852640"/>
            <a:ext cx="2590920" cy="1817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5940360" y="2636640"/>
            <a:ext cx="0" cy="216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8388360" y="6093000"/>
            <a:ext cx="49680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Work Sans ExtraBold"/>
              </a:rPr>
              <a:t>LOGOVARIANTEN</a:t>
            </a:r>
            <a:r>
              <a:rPr b="0" lang="en-US" sz="5400" spc="-1" strike="noStrike">
                <a:solidFill>
                  <a:srgbClr val="f08ba6"/>
                </a:solidFill>
                <a:latin typeface="Work Sans ExtraBold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ork Sans SemiBold"/>
              </a:rPr>
              <a:t>Kombinationslogo in Farbvari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2519280" cy="176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3059280" y="2707920"/>
            <a:ext cx="0" cy="2089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940360" y="2636640"/>
            <a:ext cx="0" cy="216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6360" y="2852640"/>
            <a:ext cx="2519280" cy="17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276720" y="2852640"/>
            <a:ext cx="2519280" cy="1768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8388360" y="6093000"/>
            <a:ext cx="49680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Work Sans ExtraBold"/>
              </a:rPr>
              <a:t>LOGOVARIANTEN</a:t>
            </a:r>
            <a:r>
              <a:rPr b="0" lang="en-US" sz="5400" spc="-1" strike="noStrike">
                <a:solidFill>
                  <a:srgbClr val="a79aff"/>
                </a:solidFill>
                <a:latin typeface="Work Sans ExtraBold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ork Sans SemiBold"/>
              </a:rPr>
              <a:t>Einzeiliges Logo in Farbvari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19280" y="3357720"/>
            <a:ext cx="1873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4365720"/>
            <a:ext cx="180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770400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770400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7704000" cy="72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8388360" y="6093000"/>
            <a:ext cx="49680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Work Sans ExtraBold"/>
              </a:rPr>
              <a:t>LOGOVARIANTEN</a:t>
            </a:r>
            <a:r>
              <a:rPr b="0" lang="en-US" sz="5400" spc="-1" strike="noStrike">
                <a:solidFill>
                  <a:srgbClr val="bc85a3"/>
                </a:solidFill>
                <a:latin typeface="Work Sans ExtraBold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ork Sans SemiBold"/>
              </a:rPr>
              <a:t>Einzeiliges Logo in Farbvari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7704000" cy="720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3419280" y="3357720"/>
            <a:ext cx="1873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360" y="4365720"/>
            <a:ext cx="180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5640" y="2565360"/>
            <a:ext cx="7704000" cy="72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4360" y="4653000"/>
            <a:ext cx="7775280" cy="727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8388360" y="6093000"/>
            <a:ext cx="49680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Work Sans ExtraBold"/>
              </a:rPr>
              <a:t>WORTMARKE</a:t>
            </a:r>
            <a:r>
              <a:rPr b="0" lang="en-US" sz="5400" spc="-1" strike="noStrike">
                <a:solidFill>
                  <a:srgbClr val="f6ba87"/>
                </a:solidFill>
                <a:latin typeface="Work Sans ExtraBold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ork Sans SemiBold"/>
              </a:rPr>
              <a:t>Wortmarkenlogo ohne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148360" y="2852640"/>
            <a:ext cx="3527280" cy="247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527280" cy="247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V="1">
            <a:off x="4500720" y="2637000"/>
            <a:ext cx="0" cy="3024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8388360" y="6093000"/>
            <a:ext cx="49680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Work Sans ExtraBold"/>
              </a:rPr>
              <a:t>WORTMARKE</a:t>
            </a:r>
            <a:r>
              <a:rPr b="0" lang="en-US" sz="5400" spc="-1" strike="noStrike">
                <a:solidFill>
                  <a:srgbClr val="f08ba6"/>
                </a:solidFill>
                <a:latin typeface="Work Sans ExtraBold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ork Sans SemiBold"/>
              </a:rPr>
              <a:t>Wortmarkenlogo ohne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3527280" cy="247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V="1">
            <a:off x="4500720" y="2637000"/>
            <a:ext cx="0" cy="3024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48360" y="2781360"/>
            <a:ext cx="3527280" cy="247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388360" y="6093000"/>
            <a:ext cx="49680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Work Sans ExtraBold"/>
              </a:rPr>
              <a:t>BILDMARKE</a:t>
            </a:r>
            <a:r>
              <a:rPr b="0" lang="en-US" sz="5400" spc="-1" strike="noStrike">
                <a:solidFill>
                  <a:srgbClr val="a79aff"/>
                </a:solidFill>
                <a:latin typeface="Work Sans ExtraBold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538440" cy="2683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48360" y="2349360"/>
            <a:ext cx="3595680" cy="2725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4572000" y="1989000"/>
            <a:ext cx="0" cy="3384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388360" y="6093000"/>
            <a:ext cx="49680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4-03T11:54:44Z</dcterms:created>
  <dc:creator>Vier oder weniger Pfoten</dc:creator>
  <dc:description>Version 1.0, © Vier oder weniger Pfoten 2024. Alle Rechte vorbehalten. </dc:description>
  <cp:keywords>Marke;Vier oder weniger Pfoten;1.0;</cp:keywords>
  <dc:language>en-US</dc:language>
  <cp:lastModifiedBy>Thore</cp:lastModifiedBy>
  <dcterms:modified xsi:type="dcterms:W3CDTF">2024-04-22T17:13:05Z</dcterms:modified>
  <cp:revision>16</cp:revision>
  <dc:subject>Markenauftrittspräsentation für Website</dc:subject>
  <dc:title>Vier oder weniger Pfoten | Markenauftrit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opierrechtsverweis">
    <vt:lpwstr>© Vier oder weniger Pfoten 2024. Alle Rechte vorbehalten.</vt:lpwstr>
  </property>
  <property fmtid="{D5CDD505-2E9C-101B-9397-08002B2CF9AE}" pid="3" name="MD5-Prüfsumme">
    <vt:lpwstr>b460b148a75660e310e5226532feb622</vt:lpwstr>
  </property>
  <property fmtid="{D5CDD505-2E9C-101B-9397-08002B2CF9AE}" pid="4" name="Version">
    <vt:lpwstr>1.0</vt:lpwstr>
  </property>
</Properties>
</file>